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34F-3D29-4E9E-8515-D2FB5A2C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5CC-F603-446A-AA6E-E86C41F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242-A684-411F-9AF1-98B021C6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173-3E7B-4288-8D34-05C12B83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549-131C-47AF-A3AC-5F5F367B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D2A-F6EB-4100-9EBE-607C3ED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A58-8BA8-4921-B6FE-6769D23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103-AF5C-4B4C-A158-C3399E22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9DC-A8A7-4C9F-98DE-B342209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1C3-50E7-42AB-A4B9-0503482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0F1-B496-49E7-B1C5-B8E7E94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F95-F4AD-4C6C-A4AD-A5BB79A8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7325-09BC-403E-88AB-71A1C6D4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ol.yorku.ca/" TargetMode="External"/><Relationship Id="rId2" Type="http://schemas.openxmlformats.org/officeDocument/2006/relationships/hyperlink" Target="http://www.biol.yorku.ca/index.php?option=com_content&amp;view=category&amp;layout=blog&amp;id=9&amp;Itemid=9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ginning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ginning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ous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ous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a-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s to enhance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medicine involving use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echnology and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a university near yo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.yorku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divisions in bi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ol.yorku.ca/index.php?option=com_content&amp;view=category&amp;layout=blog&amp;id=9&amp;Itemid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complete l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s to enhance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medicine involving use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echnology and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 and it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 and it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chang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nim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share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clav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loc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chang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nim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system based on share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clav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loc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1-09-08T14:34:42Z</dcterms:modified>
  <cp:revision>24</cp:revision>
  <dc:subject/>
  <dc:title>Biology Disciplines</dc:title>
</cp:coreProperties>
</file>